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shre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7DB-20F7-4AC3-A22C-7151AFE3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EF9-5CFC-44B7-A81A-2AD7236F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4AA-F6AE-4B3D-879B-7C5127C0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F43-CFEE-4EE6-B618-24F5831E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858-48CE-4A6A-B833-64A65BA7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D13-5C7E-4253-9A46-AC6BF21F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B3B-1CD0-4628-A604-D0233EB0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975-9D1B-4B69-98C3-E15C24E5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AAD-E020-4BC0-8CCD-BF587730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59F-AD1B-4DF0-BE2A-E8CDDCD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E3B-6920-4853-A4AB-6D888D4D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D77-4F11-4DCC-BC95-157AEF13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F859-169F-4792-B26C-1988AC3C94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468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) Calculate the resultant force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7080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2010 James Fergu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5280" y="4392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5b Vectors and Equation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 FOR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5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ebdings"/>
                <a:ea typeface="Webdings"/>
              </a:rPr>
              <a:t>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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0mins appr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Resultant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2357280"/>
            <a:ext cx="4672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Force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ForceB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8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8.54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11960" y="2424240"/>
            <a:ext cx="21985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05480" y="2882880"/>
            <a:ext cx="8305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8924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b) Calculate the resultant angle </a:t>
            </a:r>
            <a:r>
              <a:rPr b="0" lang="el-GR" sz="2600" spc="-1" strike="noStrike">
                <a:solidFill>
                  <a:srgbClr val="ffffff"/>
                </a:solidFill>
                <a:latin typeface="Comic Sans MS"/>
              </a:rPr>
              <a:t>θ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95400" y="4813200"/>
            <a:ext cx="41576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opposite / adja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3 /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20.56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56280" y="32353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78760" y="26193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78600" y="640080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6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48600" y="17780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19400" y="55357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30520" y="51339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13360" y="45212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85920" y="2143080"/>
            <a:ext cx="3508200" cy="1896120"/>
            <a:chOff x="385920" y="2143080"/>
            <a:chExt cx="3508200" cy="1896120"/>
          </a:xfrm>
        </p:grpSpPr>
        <p:sp>
          <p:nvSpPr>
            <p:cNvPr id="59" name=""/>
            <p:cNvSpPr/>
            <p:nvPr/>
          </p:nvSpPr>
          <p:spPr>
            <a:xfrm>
              <a:off x="1014480" y="2143080"/>
              <a:ext cx="2879640" cy="1440000"/>
            </a:xfrm>
            <a:prstGeom prst="rtTriangl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14480" y="2728800"/>
              <a:ext cx="0" cy="181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97080" y="3578400"/>
              <a:ext cx="181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14480" y="3400560"/>
              <a:ext cx="179280" cy="1792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3840" y="2735280"/>
              <a:ext cx="177840" cy="87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5920" y="2757600"/>
              <a:ext cx="52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3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87480" y="3701880"/>
              <a:ext cx="54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8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9864800">
              <a:off x="3169800" y="3246840"/>
              <a:ext cx="41544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0360" y="3222720"/>
              <a:ext cx="500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60520" y="2414520"/>
              <a:ext cx="3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54476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) Calculate the resultant force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67080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2010 James Fergu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5280" y="4392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5b Vectors and Equation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 FOR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55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ebdings"/>
                <a:ea typeface="Webdings"/>
              </a:rPr>
              <a:t>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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0mins appr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6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Resultant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2357280"/>
            <a:ext cx="4672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Force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ForceB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5.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7.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9.14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11960" y="2424240"/>
            <a:ext cx="21985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5480" y="2882880"/>
            <a:ext cx="126360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43232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b) Calculate the resultant angle </a:t>
            </a:r>
            <a:r>
              <a:rPr b="0" lang="el-GR" sz="2600" spc="-1" strike="noStrike">
                <a:solidFill>
                  <a:srgbClr val="ffffff"/>
                </a:solidFill>
                <a:latin typeface="Comic Sans MS"/>
              </a:rPr>
              <a:t>θ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95400" y="5156280"/>
            <a:ext cx="41576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opposite / adja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7.3 / 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53.0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56280" y="32353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66200" y="26193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78600" y="640080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6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48600" y="17780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9400" y="58784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16360" y="54770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13360" y="48639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71520" y="1815840"/>
            <a:ext cx="3429000" cy="2552040"/>
            <a:chOff x="371520" y="1815840"/>
            <a:chExt cx="3429000" cy="2552040"/>
          </a:xfrm>
        </p:grpSpPr>
        <p:sp>
          <p:nvSpPr>
            <p:cNvPr id="87" name=""/>
            <p:cNvSpPr/>
            <p:nvPr/>
          </p:nvSpPr>
          <p:spPr>
            <a:xfrm flipH="1">
              <a:off x="371520" y="1971720"/>
              <a:ext cx="2627280" cy="1979640"/>
            </a:xfrm>
            <a:prstGeom prst="rtTriangl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98800" y="2776680"/>
              <a:ext cx="0" cy="249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754280" y="3944880"/>
              <a:ext cx="1648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820960" y="3772080"/>
              <a:ext cx="179280" cy="1792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760400" y="2785320"/>
              <a:ext cx="162000" cy="119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86000" y="2757600"/>
              <a:ext cx="61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5.5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44480" y="4030560"/>
              <a:ext cx="67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7.3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4886600">
              <a:off x="2707920" y="1863360"/>
              <a:ext cx="41580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44" y="5"/>
                  </a:moveTo>
                  <a:arcTo wR="10800" hR="10800" stAng="-5290353" swAng="5290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44" y="5"/>
                  </a:moveTo>
                  <a:arcTo wR="10800" hR="10800" stAng="-5290353" swAng="5290353"/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485440" y="2308320"/>
              <a:ext cx="500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32080" y="2543040"/>
              <a:ext cx="33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4476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) Calculate the resultant force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67080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2010 James Fergu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5280" y="4392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5b Vectors and Equation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 FOR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55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ebdings"/>
                <a:ea typeface="Webdings"/>
              </a:rPr>
              <a:t>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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0mins appr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Resultant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357280"/>
            <a:ext cx="4672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Force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ForceB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10.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4.8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11.09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83360" y="2424240"/>
            <a:ext cx="21985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6880" y="2882880"/>
            <a:ext cx="126360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00240" y="4175280"/>
            <a:ext cx="614376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b) Calculate the resultant angle </a:t>
            </a:r>
            <a:r>
              <a:rPr b="0" lang="el-GR" sz="2600" spc="-1" strike="noStrike">
                <a:solidFill>
                  <a:srgbClr val="ffffff"/>
                </a:solidFill>
                <a:latin typeface="Comic Sans MS"/>
              </a:rPr>
              <a:t>θ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09960" y="4941720"/>
            <a:ext cx="41576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opposite / adja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4.8 / 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25.64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27680" y="32353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80440" y="251928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78600" y="640080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6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48600" y="17780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33960" y="56642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73720" y="53481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7920" y="46497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2680" y="2100240"/>
            <a:ext cx="2590560" cy="3970080"/>
            <a:chOff x="382680" y="2100240"/>
            <a:chExt cx="2590560" cy="3970080"/>
          </a:xfrm>
        </p:grpSpPr>
        <p:sp>
          <p:nvSpPr>
            <p:cNvPr id="115" name=""/>
            <p:cNvSpPr/>
            <p:nvPr/>
          </p:nvSpPr>
          <p:spPr>
            <a:xfrm flipH="1" flipV="1">
              <a:off x="384840" y="2471040"/>
              <a:ext cx="1726920" cy="3598920"/>
            </a:xfrm>
            <a:prstGeom prst="rtTriangl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12840" y="3719520"/>
              <a:ext cx="0" cy="249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39760" y="4047480"/>
              <a:ext cx="66600" cy="135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934280" y="2471760"/>
              <a:ext cx="179640" cy="1792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31840" y="2471760"/>
              <a:ext cx="1904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14400" y="2100240"/>
              <a:ext cx="61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4.8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73320" y="4087800"/>
              <a:ext cx="79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10.0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rot="3378600">
              <a:off x="1609920" y="4970520"/>
              <a:ext cx="599400" cy="64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70" y="607"/>
                  </a:moveTo>
                  <a:arcTo wR="10800" hR="10800" stAng="-4241930" swAng="55574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70" y="607"/>
                  </a:moveTo>
                  <a:arcTo wR="10800" hR="10800" stAng="-4241930" swAng="5557437"/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66000" y="4594320"/>
              <a:ext cx="500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2680" y="3298680"/>
              <a:ext cx="3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44468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) Calculate the resultant force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67080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2010 James Fergu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75280" y="4392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5b Vectors and Equation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 FOR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55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ebdings"/>
                <a:ea typeface="Webdings"/>
              </a:rPr>
              <a:t>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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0mins appr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Resultant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357280"/>
            <a:ext cx="4672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Force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ForceB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4.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4.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6.36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11960" y="2424240"/>
            <a:ext cx="21985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5480" y="2882880"/>
            <a:ext cx="12733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08924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b) Calculate the resultant angle </a:t>
            </a:r>
            <a:r>
              <a:rPr b="0" lang="el-GR" sz="2600" spc="-1" strike="noStrike">
                <a:solidFill>
                  <a:srgbClr val="ffffff"/>
                </a:solidFill>
                <a:latin typeface="Comic Sans MS"/>
              </a:rPr>
              <a:t>θ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95400" y="4813200"/>
            <a:ext cx="41576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opposite / adja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4.5 /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56280" y="32353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37320" y="26622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78600" y="640080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6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48600" y="17780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5497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44800" y="51055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13360" y="45212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85840" y="2057400"/>
            <a:ext cx="2347920" cy="2053440"/>
            <a:chOff x="285840" y="2057400"/>
            <a:chExt cx="2347920" cy="2053440"/>
          </a:xfrm>
        </p:grpSpPr>
        <p:sp>
          <p:nvSpPr>
            <p:cNvPr id="143" name=""/>
            <p:cNvSpPr/>
            <p:nvPr/>
          </p:nvSpPr>
          <p:spPr>
            <a:xfrm>
              <a:off x="1014480" y="2143080"/>
              <a:ext cx="1619280" cy="1619280"/>
            </a:xfrm>
            <a:prstGeom prst="rtTriangl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14480" y="2801880"/>
              <a:ext cx="0" cy="203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79400" y="3757680"/>
              <a:ext cx="1018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14480" y="3571920"/>
              <a:ext cx="179280" cy="1792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7960" y="2807640"/>
              <a:ext cx="100080" cy="98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5840" y="2757600"/>
              <a:ext cx="6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4.5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30360" y="3773520"/>
              <a:ext cx="6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4.5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11436600">
              <a:off x="842040" y="2091600"/>
              <a:ext cx="41652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7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74640"/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42840" y="2522520"/>
              <a:ext cx="500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32040" y="2700360"/>
              <a:ext cx="3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54476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) Calculate the resultant force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67080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2010 James Fergu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5280" y="4392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5b Vectors and Equation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 FOR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55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ebdings"/>
                <a:ea typeface="Webdings"/>
              </a:rPr>
              <a:t>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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0mins appr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6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Resultant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371760"/>
            <a:ext cx="4672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Force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ForceB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13.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3.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13.61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11960" y="3438360"/>
            <a:ext cx="21985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05480" y="3897360"/>
            <a:ext cx="13208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703760"/>
            <a:ext cx="8929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b) Calculate the resultant angle </a:t>
            </a:r>
            <a:r>
              <a:rPr b="0" lang="el-GR" sz="2600" spc="-1" strike="noStrike">
                <a:solidFill>
                  <a:srgbClr val="ffffff"/>
                </a:solidFill>
                <a:latin typeface="Comic Sans MS"/>
              </a:rPr>
              <a:t>θ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33840"/>
            <a:ext cx="41576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opposite / adja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3.3 / 1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14.04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56280" y="42498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47120" y="36194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78600" y="640080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6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48600" y="27925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9280" y="61563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6400" y="57690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13240" y="514188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2800" y="2000160"/>
            <a:ext cx="4749840" cy="1187640"/>
          </a:xfrm>
          <a:prstGeom prst="rtTriangl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191200" y="2319120"/>
            <a:ext cx="1440" cy="29196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33640" y="3187800"/>
            <a:ext cx="1634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6160" y="3000240"/>
            <a:ext cx="179640" cy="1796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57560" y="2452320"/>
            <a:ext cx="214200" cy="572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43480" y="240048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3.3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4720" y="3259080"/>
            <a:ext cx="8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3.2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rot="7867200">
            <a:off x="1323000" y="2806200"/>
            <a:ext cx="415080" cy="46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4" y="5"/>
                </a:moveTo>
                <a:arcTo wR="10800" hR="10800" stAng="-5290353" swAng="5290353"/>
                <a:lnTo>
                  <a:pt x="10800" y="10800"/>
                </a:lnTo>
                <a:close/>
              </a:path>
              <a:path fill="none" w="21600" h="21600">
                <a:moveTo>
                  <a:pt x="11144" y="5"/>
                </a:moveTo>
                <a:arcTo wR="10800" hR="10800" stAng="-5290353" swAng="5290353"/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9160" y="2852640"/>
            <a:ext cx="5000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9440" y="2071800"/>
            <a:ext cx="33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9:31:54Z</dcterms:created>
  <dc:creator/>
  <dc:description/>
  <dc:language>en-US</dc:language>
  <cp:lastModifiedBy/>
  <dcterms:modified xsi:type="dcterms:W3CDTF">2010-09-24T12:53:08Z</dcterms:modified>
  <cp:revision>36</cp:revision>
  <dc:subject/>
  <dc:title>Slide 1</dc:title>
</cp:coreProperties>
</file>